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39E-992A-4F36-A6D5-B713F45C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D02-DC93-48CF-A558-272CDF41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78D-CE64-4398-BC2C-E2A5A2A2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659-86AE-46D2-A5B7-9A25A343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47B8-CB00-4887-8D55-D7B300D0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BA82-22A1-4518-95AF-DBB2BEA7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589B-1CFE-4CE3-999A-56E586B7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A28D-A6D3-45C3-B80B-EB8FDEF2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19C3-4C57-4F9B-A685-C26C3DC2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2627-2033-46D3-B46B-323E86F4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4C88-FD42-4260-BBFB-B5F7A937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FE4-E020-4AD1-9ABD-1CAFEEBF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F12D-F8EE-4A99-B15B-71C2859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36C9-DD7F-4965-8423-398F4E9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FA5E-79A5-496B-970C-E5796F38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3B33-CE6F-433F-84CE-81333F73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4663-A774-47CC-AF23-78EBB531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9B2-76B6-4ADC-B2CA-AE5FBD56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273-DD7A-45C1-B739-F9423B5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9A3-8F3A-41E1-82BF-B05C246A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F8A-F0D8-4D01-8CD5-7A347A4A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20F-0509-4359-859B-670DFBCC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3A2-3DDC-415A-A5DF-64EAD721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D8A-FBED-49F5-BC26-1558F1AF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4C41-E338-495F-AD91-D46DDD1BE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80C1-BF20-490D-9ABD-F634F728A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Audio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9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IDI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IDI is a method and format for recording music from synthesizers and other electronic instruments. MIDI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reated with a computer that has a sequen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contain actual musical no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contain sound waves or use samp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small and load quickly on a Web 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Audio Software for the PC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ost new PCs come with some software and hardware for recording and managing audio files.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 editing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you to edit audio files and convert them from one format to an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I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programs for recording, storing, replaying, and editing MIDI fi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you to create sheet music for many voices or instru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Audio Hardware Devic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udio hardware devices for the PC may includ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o or sound c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phones for voice in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I input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/DVD bur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Audio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a multimedia production, sound and music are crucial in helping to establish moods and create environment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Audio on PCs 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ny types of sounds are accessible with a PC. They includ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ef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ken nar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soundtr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telephone convers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 alerts and prom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igital Audio Recording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igital recording devices capture sound by sampling the sound waves.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91120" y="2090880"/>
            <a:ext cx="4876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igital Audio Qualit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quality and size of digital audio depends on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pling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ple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umber of channel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ime span of the reco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streaming audio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reaming audio plays as it reaches your PC, making it unnecessary to wait until the entire file is downloaded to the computer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Audio File Forma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n audio file’s format determines what files a PC can open and play, and how much space the file occupies on a disk. File formats includ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P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P3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P3 is a standard format for music files sent over the Internet. MP3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ne of three MPEG standards for audio com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compress an audio file to about one-twelfth of the space it occupies on a CD with no significant loss of sound 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AV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AV is a standard for sound files on Windows and Macintosh PCs. WAV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compress audio as much as MP3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generally used for sound effects and other small 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22:02:48Z</dcterms:created>
  <dc:creator>LJ</dc:creator>
  <dc:description/>
  <dc:language>en-US</dc:language>
  <cp:lastModifiedBy>GLENCOE</cp:lastModifiedBy>
  <dcterms:modified xsi:type="dcterms:W3CDTF">2003-01-04T01:08:36Z</dcterms:modified>
  <cp:revision>8</cp:revision>
  <dc:subject/>
  <dc:title>Chapter 9 Audio</dc:title>
</cp:coreProperties>
</file>